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4534-65A4-47DB-9696-6D9B4A02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98B0-2EEB-4A9F-A5FC-021A6457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7F8F-1B8E-4E2F-A20D-FF71E3A9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AEC6-43EC-4D4D-849D-8A4162A3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1AA1-6630-4DD1-87F1-E5757C29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DE50-6A52-4DAC-87FA-395B9D12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F326-56F5-47BB-8789-246C425D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2987-DE2F-4FFE-84AC-2DB59080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74C3-E441-48AD-A98C-94226EC6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88AC-AF15-4E4C-8E56-1C74796A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C22E-8691-488B-860E-E7B66324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B929-C574-401A-8A08-5BAB18CC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5A12-9039-4DEC-B041-84631A914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2286000"/>
            <a:ext cx="38862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omité de pilo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1080" y="4495680"/>
            <a:ext cx="2397240" cy="7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6095880"/>
            <a:ext cx="31240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Équipe proj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6095880"/>
            <a:ext cx="30193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orrespond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" name=""/>
          <p:cNvCxnSpPr>
            <a:stCxn id="42" idx="2"/>
            <a:endCxn id="43" idx="0"/>
          </p:cNvCxnSpPr>
          <p:nvPr/>
        </p:nvCxnSpPr>
        <p:spPr>
          <a:xfrm rot="5400000">
            <a:off x="2202480" y="4848840"/>
            <a:ext cx="835200" cy="1659240"/>
          </a:xfrm>
          <a:prstGeom prst="bentConnector3">
            <a:avLst>
              <a:gd name="adj1" fmla="val 4997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6" name=""/>
          <p:cNvCxnSpPr>
            <a:stCxn id="42" idx="2"/>
            <a:endCxn id="44" idx="0"/>
          </p:cNvCxnSpPr>
          <p:nvPr/>
        </p:nvCxnSpPr>
        <p:spPr>
          <a:xfrm flipH="1" rot="16200000">
            <a:off x="3828960" y="4881240"/>
            <a:ext cx="835200" cy="1594080"/>
          </a:xfrm>
          <a:prstGeom prst="bentConnector3">
            <a:avLst>
              <a:gd name="adj1" fmla="val 50021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2" idx="0"/>
          </p:cNvCxnSpPr>
          <p:nvPr/>
        </p:nvCxnSpPr>
        <p:spPr>
          <a:xfrm flipH="1">
            <a:off x="3449520" y="4038480"/>
            <a:ext cx="17640" cy="457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228600" y="7696080"/>
            <a:ext cx="31240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Groupes de trav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3" idx="2"/>
            <a:endCxn id="48" idx="0"/>
          </p:cNvCxnSpPr>
          <p:nvPr/>
        </p:nvCxnSpPr>
        <p:spPr>
          <a:xfrm>
            <a:off x="1790640" y="6934320"/>
            <a:ext cx="360" cy="76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28T07:57:50Z</dcterms:modified>
  <cp:revision>100</cp:revision>
  <dc:subject/>
  <dc:title>Présentation PowerPoint</dc:title>
</cp:coreProperties>
</file>